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EDBF-2599-4B4F-B6DE-99B03730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BE5C-D5C3-4B47-97BC-D9E32909C1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577-558E-46A3-9ECE-A47C793D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360-26C7-4F97-9AA6-EB9AB7ED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AD3-4C36-4AC1-8CBC-24BB2D90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327-74C1-45D1-81C8-FC8E7BBE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165-D216-447B-90DA-BD8317DD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16C8-23EE-4A1B-83E1-2A298540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1F6B-024D-4D4F-9118-5785F2C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97E7-BBC2-4F51-94F9-16C39A13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1D0-4DA6-4801-A7D9-DED0ECB9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A33D-6098-44C1-A9A2-8F3375E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F446-273C-419A-98C2-9430B42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BD3-3F6F-4E48-9E67-B2265DE8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4C6A-B2FD-4572-BAC7-64750F37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37F5-BC1A-4130-8239-87A5B46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54C1-2A40-46D3-A122-82C01B70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F0D4-A5E5-4566-B17C-6080CEB2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02B8-5FD9-42AF-964A-CA8F6E20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468-05F4-4D94-B756-E8B00AB8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724-D54A-4E2A-95BF-C0CCAD62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4E0-6A35-4822-A475-E389476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B18-886B-402D-AB60-116A0293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66F-0A74-40DE-9D8B-5E84FCE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3B6-6030-4960-9B7E-D42744BC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C2D-7D81-460C-B070-3667193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4D8B-F121-4F76-93F4-B459314D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7A9-7737-445A-BB20-EE389B70D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Unique Hatred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28951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ow Was the Holocaust Possib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a lecture delivered b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Karl Schleu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 or History, UNC-Greensbo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. Augustine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explan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were affected by Augustin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teach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now seen as the obstacles to the coming of the Kingdom of Go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n the tenth century (900 AD)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rench Bishop</a:t>
            </a: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 serm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od divided people into three groups of importance [the three estates]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ergy (those who pra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ldiers [knights -- nobility] (those who figh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ers (97%) (those who wor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tice anyone miss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ws were excluded from the Medieval worl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eans they could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 own land or have an honorable profession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dieval Age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900 AD -1500 A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full scale demonization of the Jews by the chu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ish have magical pow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are in league with the Dev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omen are also seen as being in league with the Devi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 Crus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096, the first crusad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uropean world has put itself together religiously, politically and economically and feels powerf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pe Ervin the II gathers armies to restore the Holy land to Christianity (Under Islamic control for 400 year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Crusade is successful in wresting control of Jerusalem from Musli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 Crus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twelfth century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rusalem is in Christian h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ight Emico marches towards the Holy Land with his troo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decides the trip is too f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have enemies [infidels] among 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ched up the Rhine River and slaughtered over 12,000 Jewish peo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rst Reformation of the Chur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the church was the wealthiest institution, land owner (monaster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ved into banking and money le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s act is debated, chiefly by the Franciscans – Jesus would not approve of money le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ormed around 118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king of interest is a s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urch is separated from money le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T … without inter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o economic activity or development.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… If Christians can</a:t>
            </a: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 lend money, the Jews can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They were believed to be condemned anywa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nother layer of hate is added (economi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ereotyp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still viewed as Christ kill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become seen as greedy money len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ET – in 1215, the biggest banking houses in the Middle Ages are still run by Christi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clining respe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ions between the Jewish and Christians are so horrible that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Jewish people had to be identified by a yellow st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uring the Holy Week (before Easter), Jews should be locked up at home so that the Christians would not be tempted to sin and take reve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maller question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the Jews (victims)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the Germa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Hitler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9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y Auschwitz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new charge against Jew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itual Mur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1144, around Easter in Norwich, a young Christian boy is murder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rderer was hard to fi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rge spreads that the murderer must be a Jewish immigr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Jews required the blood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hristian boy to mix the Passover br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hurch Conference … 1215 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haired by Pope Innocent III (highly sophisticated m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ll explanation of the seven sacraments – according to the church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teaching, these sacraments impart god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gra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important sacrament is the Euchari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ring the celebration of the Eucharist, bread and wine turn magically and/or spiritually into the body and blood of Chri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other false charge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sacrament desecration charg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nce Jews have already killed Christ, they try to kill him symbolically by stabbing the communion waf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to remain locked inside during Lent and Easter to keep from antagonizing Christia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 Black Deat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1348 and 1352, Bubonic Plague kills between 25 to 40 percent of the pop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id this happ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d is punishing 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niversity of Paris doctors say that the disease is the result of the conjunction of the planets, Jupiter and Mar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nother possible explanatio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are the reas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do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 seem to be hit as hard by the plaqu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Jews did d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en then, their deaths were seen as their commitment to do evi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,000 Jewish people were locked into a barn/warehouse and burned to destroy evi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Jews were expelle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elled from England, from France, from the German and Italian sta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1492, Jews were expelled from Spai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most often ended up in Eastern Europe: Poland, Czechoslovakia, etc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wish ghetto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ish ghettoes began in the 1400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were locked in the ghettoes at n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pecially during Holy week when the presence of Jews might offend Christian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ejudices enter Protestantism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iefly through the writings of Martin Luth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 writes favorably of the Jews, explaining he understands why they have not converted before – because of the corruption of the Christian Chur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a bitter old man, Luther writes a book tit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On the Jews and Their L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odern - Enlighte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8th Century… Hope in the enlightenmen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755- Jean Jacques Rousseau writes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say on the Origins of the Inequality of Men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questions that God divided the men into the three estat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argues that God is not responsible for divisions in man; men have divided themselv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odern - Enlighte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usseau – intellectual father of the French Revolu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erty.  Equality.  Fraternity.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omas Jefferson – Declaration of Independen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hold these truths to be self-evident, that all men are created equal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yers of hat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ag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arly Christian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eval Ag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r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ern Period – 19</a:t>
            </a:r>
            <a:r>
              <a:rPr b="1" lang="en-US" sz="3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the 19th century, thes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deal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generated a call for th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ancipation of workers, peasants, women, slav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ancipation of the Jew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mancipation movements were carried out in most countries except Russia, which controlled Eastern Europ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791, in France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poleon invites the Jewish people to become French men and wom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so invited by England, Italy, an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rmany,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ng others, to enjoy citizenshi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s were being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imilated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ch success was experienc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nomic advancement, Industrial Revol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 wealth opens opportunity for minor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Jewish people were taking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Verdana"/>
              </a:rPr>
              <a:t>humbler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job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dicine (until the birth of germ-based the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al Profe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urnal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rmany was the most literate country of the ti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aily newspaper invented in the 19th century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ermany was the first nation to introduce compulsory elementary education at public exp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ile in Germany, Jews become enthusiastic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e finally have a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afe harbor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85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and 1860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Jews still faced Anti-Semitism in some pla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tern Euro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groms and Ritual murder charges continue, especially after the 1880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zar tries to siphon off the resentments in Russia and channel them toward the Je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yfus affair – blamed a Jewish officer who was a member of the General Staff for French secrets being compromi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irth of Modern Racism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854 – Frenchman Arthur de Gobineau writes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say on the Inequality in the Races.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ther of modern rac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erior/Inferior races [most creative and superior: White northern Europeans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yan – white northern Europ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Inferior – Parasitic Je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irth of Modern Rac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no such thing as a Jewish race or an Aryan race. In fact, most biologists consider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be an antiquated notion. Genetic differences are insignificant biologicall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idea of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was invented and justified with scientific langua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rwinism/Social Darwinis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basic princip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rvival of the Fitt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arwin wrote about species, others applied to races. [Social Darwinism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rwinism/Social Darwinis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isapplication of Darwin leads to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ugenic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od birth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d by implication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ective breeding.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IM: Encourage the birth o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children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discourage the birth o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erior children.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led for large scal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terilizatio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inferior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gans (2000 BC – A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cient World was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lytheisti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cient Hebrews introduce the concept of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notheis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ief that Jews were Go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 special chosen peo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lays the foundation of hatr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ication to ancient pagans: Your religions are wro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rwinism/Social Darwinis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1930, some 33 states in the US had sterilization law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y in 2004 did Gov. Easley of NC apologize for sterilization policies of the s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ELIEF – Poor/Inferior races breed more rapid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verty and criminality are the product of inferior blood types and g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900, in German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ish religious leaders concerned that the Jewish religion will be gone by the end of the century because of intermarri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rmally gave up Judaism as their fai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ar of disappearance of the Jewish people/religion drove religious lea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900, in German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sophisticated European would think that Germany would be the ones to destroy the Jew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 what went wro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orge Mosse and his family were driven out of Germany in 1933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s family moved to England and then moved to the U.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 received a doctorate in history from Harvard and spent his professional career trying to discover what went wrong in German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orld War I (1914-191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 was arguably the most powerful country in the wor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on beliefs in Germany promoted by the German government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ar will be short, over by Christ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 will win against foreign aggre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y has been attacked unfair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ar will establish Germany as the world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leading pow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orld War I (1914-191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 enthusias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ole classes of graduates marched down to the recruitment offi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rtionally more Jews volunteer to fight for Germany than other German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erman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ron Youth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expected a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ro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Christmas,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but the war did not work out that wa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1916 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1916, the war was on a larger sca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unger/starv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mans sacrificed to help the government/military while being told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Germany is winning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1917, Russia leaves World War I because of the Bolshevik Revolution. [Then the U.S. entered the war.]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October 1918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y seeks peace and admits defea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the German people are now asking questions in the face of this suffering and def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HAPPEN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reaty of Versail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April 1919, the Germans learn that they will not negotiate a treaty, but one will be imposed on th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y must sign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nor clauses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cept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r guil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ced to pay repa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cused of war cri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rning Ques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ould we be winning this war for four years, and then surrender?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he public ask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were we defeated?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mperor is overthrown and the Republic establish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mmediate Aftermath of WW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erinflation – money is worthl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.2 trillion deutsche marks = One U.S. doll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ue of deutsche mark changed throughout a day, so workers were paid twice a day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n U.S. dollars could buy a ten day vacation in the mounta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arly Christia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round 2000 years ago from 100 AD to 500 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esus is hailed as the Messiah (The son of Go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s did not accept this clai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y labeled Jesus as a trouble mak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ucifixion around 27 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nter Adolf Hit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-year veteran of WW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e contends that the Jews are the probl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of the resentment from the beginning of time is engrained in his be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first attempt to seize power in 1923 – Beer Hall Puts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nter Adolf Hitl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T After 1924, Germany begins to recover and Hitler disappea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zi Party receives 2.7% of vo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public was work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en in 1929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worldwid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pressio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s the German econom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sumes his quest for power and wants to establish a Third Rei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tler is a charismatic politicia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1" lang="ja-JP" sz="3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 theory of propaga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politicians have to li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ttle lies are found out, so telling little lies is a mista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g li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the ke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eat the big lie until the people believe the li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ople will start thinking… must be some truth in what he say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cist ideolog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inferior race is impeding the Aryan r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ews stabbed Germany in the back during the w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big li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were winning; Jews betrayed u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ws, who run all the world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capitals, pulled the string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Truth) Jews were honored in the w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Platfor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voke Jewish citizensh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ove Jews from German life and medicine and journalism (because they are writing li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struct the purity of Aryan/German r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ws are trying to weasel their blood into o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iginal Sin = mixing of r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Warsaw G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warsaw ghetto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ligious Persec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5" descr="warsaw rabbis"/>
          <p:cNvPicPr/>
          <p:nvPr/>
        </p:nvPicPr>
        <p:blipFill>
          <a:blip r:embed="rId1"/>
          <a:stretch/>
        </p:blipFill>
        <p:spPr>
          <a:xfrm>
            <a:off x="1523880" y="1649520"/>
            <a:ext cx="61722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Hitler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Platfor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tore Germany to its rightful position in the wor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quer living sp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rify and multiply the Aryan r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rilization and infanticid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aises Spartans for abandoning inferior bab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erilization of Germans of African extraction (born in 1919-1921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arrying out his pl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rimination legis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izure of propert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gregation of the Jews (kicked out of teaching positions and governmental positions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ced emig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es euthanasi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ucifixion of Jesu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late tries to have the crowd ask to put someone else to deat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s blamed for killing the son of G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wish people asked what to do with Jes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owd said: Let him be crucified … and his blood will be on us and our children (Matt 27:2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ings the charge: Jews wer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rist killer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at is a Jew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roblem is defining who is a Jew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government official must prove that he is not Jewis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yan paragraph – 1933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nd their baptismal certific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uremberg Laws (193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wish if descended from 3 or 4 Jewish grandpar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grandparent – mischling (mixed ancest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l those who work for the government must coopera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ard game in 1934 called 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tting Rid of Jews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zis: 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 of Jews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azis conquered Poland – and many Jews lived in Polan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zis begin establishing ghett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mid-summer of 1941, Hitler seems to have been successful in conques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 the height of power, Hitler decides he can now discuss building factories of deat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odies at Buchenwal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buchen bodies"/>
          <p:cNvPicPr/>
          <p:nvPr/>
        </p:nvPicPr>
        <p:blipFill>
          <a:blip r:embed="rId1"/>
          <a:stretch/>
        </p:blipFill>
        <p:spPr>
          <a:xfrm>
            <a:off x="1905120" y="1719360"/>
            <a:ext cx="5105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odies at Dacha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5" descr="dachau dead"/>
          <p:cNvPicPr/>
          <p:nvPr/>
        </p:nvPicPr>
        <p:blipFill>
          <a:blip r:embed="rId1"/>
          <a:stretch/>
        </p:blipFill>
        <p:spPr>
          <a:xfrm>
            <a:off x="1600200" y="1665360"/>
            <a:ext cx="62485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achau survivors in the bloc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amp survivors"/>
          <p:cNvPicPr/>
          <p:nvPr/>
        </p:nvPicPr>
        <p:blipFill>
          <a:blip r:embed="rId1"/>
          <a:stretch/>
        </p:blipFill>
        <p:spPr>
          <a:xfrm>
            <a:off x="1905120" y="1752480"/>
            <a:ext cx="54864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nd Resul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 million of Europe</a:t>
            </a:r>
            <a:r>
              <a:rPr b="0" lang="ja-JP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 11 million Jews are kill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at number, 1.5 million are child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y summer of 1942, the United States was aware of what was happening in the death camps in Pol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 the year 300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ristianity wins over the Rom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stantine orders an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dict of toler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90 A.D. – Christianity is the official Roman relig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ganism is forbid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 the year 410…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ic tribes sacked city of Rom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This experience, which occurred over three days, was akin to 9-1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manic Barbarians break into Rome and pillage and rape and burn Rom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ised the questi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was God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 prote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. Augustine</a:t>
            </a:r>
            <a:r>
              <a:rPr b="1" lang="ja-JP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 explanatio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gustine wro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he City of Go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 was not in the business of protecting cities of ma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d was concerned with the City of G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rth was a testing gro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version of Jews to Christianity will signal the return of Jes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46:57Z</dcterms:created>
  <dc:creator>Michael Parker</dc:creator>
  <dc:description/>
  <dc:language>en-US</dc:language>
  <cp:lastModifiedBy>Sachelle Phipps</cp:lastModifiedBy>
  <dcterms:modified xsi:type="dcterms:W3CDTF">2012-12-02T05:33:34Z</dcterms:modified>
  <cp:revision>18</cp:revision>
  <dc:subject/>
  <dc:title>Unique Hatred </dc:title>
</cp:coreProperties>
</file>